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15A1-DCE0-4471-A142-4D4C2557F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08B4-3A05-490B-AE16-013880901CE3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2995-2D18-4409-8B3B-EF2AA161BB94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FA03-F884-4823-A4FE-6C1A316A21BD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4E1E-84FC-4701-B694-343294F99984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F460-2917-44E6-A331-A59A8C8D5BC5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4659-145B-4EA5-ACBC-1AB1787D6069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A92D-C380-4DF6-B6AE-8F9130799806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92DF-647A-45B1-A28D-8D027C623F42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C0D-A5F1-4F88-A2E7-7586A564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46A-D2DD-4FB4-955F-4B9D6812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BF1-0B55-46F2-B512-7CCB8D01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8D9-F933-4DE7-9367-5503D27A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5B9D-4E8C-4835-88D6-A8DD4D8C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0E3E-EEDD-450A-BAC5-9C2CFF8D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9A88-0E4C-4250-BA6A-379FDFB9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3B91-B715-4BB0-BEC8-4C2FA116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0435-6DBE-4C72-A5C3-F10AF4AA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C986-CFF9-4A6C-BF2C-CCB683A5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0C4D-9185-4DF5-8D78-47807ABD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D21-0B37-45FA-B595-0A3CBAB5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C4C2-A50C-4B98-B8A6-AE4AD014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DE8D-256B-4398-B7D0-1EAFD8F3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71E5-2B20-4BB3-9BFE-EE060495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E8BB-6DBF-42A8-A240-544B820B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D361-6509-413C-B2FA-06E2B57A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4C179-61C0-4E1B-9395-9815E590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3ED67-EC31-484B-82F3-273DB059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C6BFB-B0A4-40DF-8D79-9E36696F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BC400-14DA-4C9B-B47A-9A95E1AA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0D9F4-6859-4152-897E-8C8AE11D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C92-7682-4429-94DC-F43183AD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3B747-F680-4A1C-843B-3BBA0EE2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E40D-B106-4B79-B06C-8067AE8F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E4BF8-0ED9-4AE4-B442-C93CD7B0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D4D17-7051-4A4C-B02F-203EEDA4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C948-A1A3-4C5E-BD19-09299B1D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4461-B371-4376-8D90-3D46F8C2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77D5A-CDF7-44C9-817D-E2B04609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BCD7E-5D3C-4E4B-BA1E-1311A6DD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DFDB4-1E63-4EF7-A1C1-7E44E70A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FBBBF-446E-4C47-826C-5FB5B4F8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446-5A76-4D75-A52C-9048BA8E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F15E-7704-499F-9C23-A03BE0EB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FABC5-8F56-4F71-B986-AF822C9D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A7995-FEBD-47EB-AB09-784224CD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85E30-1D81-46D8-95AA-6025B7A1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2C160-D4B9-4B79-952F-BCE9F71F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EC9FD-E01F-41A8-9D04-85294138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7D4CF-3DA2-440F-ABAB-4C40C3C6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5FEB9-FF3D-4B62-880F-67F8FFD9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68E19-D2B9-499B-A528-8C9D3BF3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8CA-FBAE-4999-A3D8-1C642695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2EB-27E1-4BD3-91CF-42BF9441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ACB-EDF3-49C0-B310-8C281C53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968-A3F9-4504-9D63-C498B802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AD8-E918-4E31-A657-6DEED79C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347E-34F6-4C46-B7E9-5CA1A8B244E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77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grpSp>
          <p:nvGrpSpPr>
            <p:cNvPr id="179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80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3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8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0159-B1B9-42C8-BEC6-052FC2D278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231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232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233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234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235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36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237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9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40" name="Group 12"/>
                  <p:cNvGrpSpPr/>
                  <p:nvPr/>
                </p:nvGrpSpPr>
                <p:grpSpPr>
                  <a:xfrm>
                    <a:off x="5760360" y="2320920"/>
                    <a:ext cx="2559960" cy="2740680"/>
                    <a:chOff x="5760360" y="2320920"/>
                    <a:chExt cx="2559960" cy="2740680"/>
                  </a:xfrm>
                </p:grpSpPr>
                <p:sp>
                  <p:nvSpPr>
                    <p:cNvPr id="241" name="Freeform 13"/>
                    <p:cNvSpPr/>
                    <p:nvPr/>
                  </p:nvSpPr>
                  <p:spPr>
                    <a:xfrm rot="2711400">
                      <a:off x="5582880" y="3018960"/>
                      <a:ext cx="2128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2" name="Freeform 14"/>
                    <p:cNvSpPr/>
                    <p:nvPr/>
                  </p:nvSpPr>
                  <p:spPr>
                    <a:xfrm rot="2711400">
                      <a:off x="7133760" y="414180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3" name="Group 15"/>
                  <p:cNvGrpSpPr/>
                  <p:nvPr/>
                </p:nvGrpSpPr>
                <p:grpSpPr>
                  <a:xfrm>
                    <a:off x="5787360" y="2144160"/>
                    <a:ext cx="3040200" cy="2530800"/>
                    <a:chOff x="5787360" y="2144160"/>
                    <a:chExt cx="3040200" cy="2530800"/>
                  </a:xfrm>
                </p:grpSpPr>
                <p:sp>
                  <p:nvSpPr>
                    <p:cNvPr id="244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5" name="Freeform 17"/>
                    <p:cNvSpPr/>
                    <p:nvPr/>
                  </p:nvSpPr>
                  <p:spPr>
                    <a:xfrm rot="2103600">
                      <a:off x="7542360" y="371880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6" name="Group 18"/>
                  <p:cNvGrpSpPr/>
                  <p:nvPr/>
                </p:nvGrpSpPr>
                <p:grpSpPr>
                  <a:xfrm>
                    <a:off x="5774760" y="2061000"/>
                    <a:ext cx="3098160" cy="1994400"/>
                    <a:chOff x="5774760" y="2061000"/>
                    <a:chExt cx="3098160" cy="1994400"/>
                  </a:xfrm>
                </p:grpSpPr>
                <p:sp>
                  <p:nvSpPr>
                    <p:cNvPr id="247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8" name="Freeform 20"/>
                    <p:cNvSpPr/>
                    <p:nvPr/>
                  </p:nvSpPr>
                  <p:spPr>
                    <a:xfrm rot="1582800">
                      <a:off x="76528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9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250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2" name="Group 24"/>
                  <p:cNvGrpSpPr/>
                  <p:nvPr/>
                </p:nvGrpSpPr>
                <p:grpSpPr>
                  <a:xfrm>
                    <a:off x="5805720" y="1874880"/>
                    <a:ext cx="2939400" cy="1004400"/>
                    <a:chOff x="5805720" y="1874880"/>
                    <a:chExt cx="2939400" cy="1004400"/>
                  </a:xfrm>
                </p:grpSpPr>
                <p:sp>
                  <p:nvSpPr>
                    <p:cNvPr id="253" name="Freeform 25"/>
                    <p:cNvSpPr/>
                    <p:nvPr/>
                  </p:nvSpPr>
                  <p:spPr>
                    <a:xfrm rot="463200">
                      <a:off x="5822640" y="20008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Freeform 26"/>
                    <p:cNvSpPr/>
                    <p:nvPr/>
                  </p:nvSpPr>
                  <p:spPr>
                    <a:xfrm rot="463200">
                      <a:off x="7686000" y="220860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56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8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59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1" name="Group 33"/>
                  <p:cNvGrpSpPr/>
                  <p:nvPr/>
                </p:nvGrpSpPr>
                <p:grpSpPr>
                  <a:xfrm>
                    <a:off x="2646360" y="2471040"/>
                    <a:ext cx="2557080" cy="2742480"/>
                    <a:chOff x="2646360" y="2471040"/>
                    <a:chExt cx="2557080" cy="2742480"/>
                  </a:xfrm>
                </p:grpSpPr>
                <p:sp>
                  <p:nvSpPr>
                    <p:cNvPr id="262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3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4" name="Group 36"/>
                  <p:cNvGrpSpPr/>
                  <p:nvPr/>
                </p:nvGrpSpPr>
                <p:grpSpPr>
                  <a:xfrm>
                    <a:off x="2084400" y="2364480"/>
                    <a:ext cx="3039840" cy="2532600"/>
                    <a:chOff x="2084400" y="2364480"/>
                    <a:chExt cx="3039840" cy="2532600"/>
                  </a:xfrm>
                </p:grpSpPr>
                <p:sp>
                  <p:nvSpPr>
                    <p:cNvPr id="265" name="Freeform 37"/>
                    <p:cNvSpPr/>
                    <p:nvPr/>
                  </p:nvSpPr>
                  <p:spPr>
                    <a:xfrm flipH="1" rot="19496400">
                      <a:off x="2969640" y="2967120"/>
                      <a:ext cx="223416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Freeform 38"/>
                    <p:cNvSpPr/>
                    <p:nvPr/>
                  </p:nvSpPr>
                  <p:spPr>
                    <a:xfrm flipH="1" rot="19496400">
                      <a:off x="2169000" y="3939480"/>
                      <a:ext cx="1199880" cy="67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7" name="Group 39"/>
                  <p:cNvGrpSpPr/>
                  <p:nvPr/>
                </p:nvGrpSpPr>
                <p:grpSpPr>
                  <a:xfrm>
                    <a:off x="2040120" y="2279160"/>
                    <a:ext cx="3097080" cy="1992240"/>
                    <a:chOff x="2040120" y="2279160"/>
                    <a:chExt cx="3097080" cy="1992240"/>
                  </a:xfrm>
                </p:grpSpPr>
                <p:sp>
                  <p:nvSpPr>
                    <p:cNvPr id="268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Freeform 41"/>
                    <p:cNvSpPr/>
                    <p:nvPr/>
                  </p:nvSpPr>
                  <p:spPr>
                    <a:xfrm flipH="1" rot="20017200">
                      <a:off x="2110320" y="34596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42"/>
                  <p:cNvGrpSpPr/>
                  <p:nvPr/>
                </p:nvGrpSpPr>
                <p:grpSpPr>
                  <a:xfrm>
                    <a:off x="2010960" y="2185560"/>
                    <a:ext cx="3134520" cy="1609200"/>
                    <a:chOff x="2010960" y="2185560"/>
                    <a:chExt cx="3134520" cy="1609200"/>
                  </a:xfrm>
                </p:grpSpPr>
                <p:sp>
                  <p:nvSpPr>
                    <p:cNvPr id="271" name="Freeform 43"/>
                    <p:cNvSpPr/>
                    <p:nvPr/>
                  </p:nvSpPr>
                  <p:spPr>
                    <a:xfrm flipH="1" rot="20520000">
                      <a:off x="3063600" y="24948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Freeform 44"/>
                    <p:cNvSpPr/>
                    <p:nvPr/>
                  </p:nvSpPr>
                  <p:spPr>
                    <a:xfrm flipH="1" rot="20520000">
                      <a:off x="2084040" y="29890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3" name="Group 183"/>
                  <p:cNvGrpSpPr/>
                  <p:nvPr/>
                </p:nvGrpSpPr>
                <p:grpSpPr>
                  <a:xfrm>
                    <a:off x="2167560" y="2094840"/>
                    <a:ext cx="2937240" cy="1002600"/>
                    <a:chOff x="2167560" y="2094840"/>
                    <a:chExt cx="2937240" cy="1002600"/>
                  </a:xfrm>
                </p:grpSpPr>
                <p:sp>
                  <p:nvSpPr>
                    <p:cNvPr id="274" name="Freeform 46"/>
                    <p:cNvSpPr/>
                    <p:nvPr/>
                  </p:nvSpPr>
                  <p:spPr>
                    <a:xfrm flipH="1" rot="21136800">
                      <a:off x="3183840" y="222084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6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77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8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9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280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1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2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83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4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5" name="Group 57"/>
                  <p:cNvGrpSpPr/>
                  <p:nvPr/>
                </p:nvGrpSpPr>
                <p:grpSpPr>
                  <a:xfrm>
                    <a:off x="3160440" y="826560"/>
                    <a:ext cx="2170800" cy="1507320"/>
                    <a:chOff x="3160440" y="826560"/>
                    <a:chExt cx="2170800" cy="1507320"/>
                  </a:xfrm>
                </p:grpSpPr>
                <p:sp>
                  <p:nvSpPr>
                    <p:cNvPr id="286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7" name="Freeform 59"/>
                    <p:cNvSpPr/>
                    <p:nvPr/>
                  </p:nvSpPr>
                  <p:spPr>
                    <a:xfrm flipH="1" rot="2028600">
                      <a:off x="3206520" y="10180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8" name="Group 60"/>
                  <p:cNvGrpSpPr/>
                  <p:nvPr/>
                </p:nvGrpSpPr>
                <p:grpSpPr>
                  <a:xfrm>
                    <a:off x="3437280" y="434160"/>
                    <a:ext cx="1987560" cy="1829880"/>
                    <a:chOff x="3437280" y="434160"/>
                    <a:chExt cx="1987560" cy="1829880"/>
                  </a:xfrm>
                </p:grpSpPr>
                <p:sp>
                  <p:nvSpPr>
                    <p:cNvPr id="289" name="Freeform 61"/>
                    <p:cNvSpPr/>
                    <p:nvPr/>
                  </p:nvSpPr>
                  <p:spPr>
                    <a:xfrm flipH="1" rot="2664600">
                      <a:off x="4009320" y="149652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0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1" name="Group 63"/>
                  <p:cNvGrpSpPr/>
                  <p:nvPr/>
                </p:nvGrpSpPr>
                <p:grpSpPr>
                  <a:xfrm>
                    <a:off x="4026960" y="325440"/>
                    <a:ext cx="1462680" cy="1893240"/>
                    <a:chOff x="4026960" y="325440"/>
                    <a:chExt cx="1462680" cy="1893240"/>
                  </a:xfrm>
                </p:grpSpPr>
                <p:sp>
                  <p:nvSpPr>
                    <p:cNvPr id="292" name="Freeform 64"/>
                    <p:cNvSpPr/>
                    <p:nvPr/>
                  </p:nvSpPr>
                  <p:spPr>
                    <a:xfrm flipH="1" rot="3474000">
                      <a:off x="4337280" y="1440360"/>
                      <a:ext cx="1358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3" name="Freeform 65"/>
                    <p:cNvSpPr/>
                    <p:nvPr/>
                  </p:nvSpPr>
                  <p:spPr>
                    <a:xfrm flipH="1" rot="3474000">
                      <a:off x="4032360" y="536040"/>
                      <a:ext cx="7282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4" name="Group 66"/>
                  <p:cNvGrpSpPr/>
                  <p:nvPr/>
                </p:nvGrpSpPr>
                <p:grpSpPr>
                  <a:xfrm>
                    <a:off x="4447800" y="245520"/>
                    <a:ext cx="1123920" cy="1947240"/>
                    <a:chOff x="4447800" y="245520"/>
                    <a:chExt cx="1123920" cy="1947240"/>
                  </a:xfrm>
                </p:grpSpPr>
                <p:sp>
                  <p:nvSpPr>
                    <p:cNvPr id="295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8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6" name="Freeform 68"/>
                    <p:cNvSpPr/>
                    <p:nvPr/>
                  </p:nvSpPr>
                  <p:spPr>
                    <a:xfrm flipH="1" rot="4126800">
                      <a:off x="4417200" y="440280"/>
                      <a:ext cx="70344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7" name="Group 69"/>
                  <p:cNvGrpSpPr/>
                  <p:nvPr/>
                </p:nvGrpSpPr>
                <p:grpSpPr>
                  <a:xfrm>
                    <a:off x="5661360" y="947160"/>
                    <a:ext cx="2319840" cy="1113840"/>
                    <a:chOff x="5661360" y="947160"/>
                    <a:chExt cx="2319840" cy="1113840"/>
                  </a:xfrm>
                </p:grpSpPr>
                <p:sp>
                  <p:nvSpPr>
                    <p:cNvPr id="298" name="Freeform 70"/>
                    <p:cNvSpPr/>
                    <p:nvPr/>
                  </p:nvSpPr>
                  <p:spPr>
                    <a:xfrm rot="20274000">
                      <a:off x="5655240" y="151884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9" name="Freeform 71"/>
                    <p:cNvSpPr/>
                    <p:nvPr/>
                  </p:nvSpPr>
                  <p:spPr>
                    <a:xfrm rot="20274000">
                      <a:off x="7114320" y="1085040"/>
                      <a:ext cx="81756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0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301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2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03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05" name="Group 77"/>
                  <p:cNvGrpSpPr/>
                  <p:nvPr/>
                </p:nvGrpSpPr>
                <p:grpSpPr>
                  <a:xfrm>
                    <a:off x="5358240" y="268200"/>
                    <a:ext cx="1191600" cy="1898280"/>
                    <a:chOff x="5358240" y="268200"/>
                    <a:chExt cx="1191600" cy="1898280"/>
                  </a:xfrm>
                </p:grpSpPr>
                <p:sp>
                  <p:nvSpPr>
                    <p:cNvPr id="306" name="Freeform 78"/>
                    <p:cNvSpPr/>
                    <p:nvPr/>
                  </p:nvSpPr>
                  <p:spPr>
                    <a:xfrm rot="17742000">
                      <a:off x="5089320" y="1414080"/>
                      <a:ext cx="130896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7" name="Freeform 79"/>
                    <p:cNvSpPr/>
                    <p:nvPr/>
                  </p:nvSpPr>
                  <p:spPr>
                    <a:xfrm rot="17742000">
                      <a:off x="5885280" y="484560"/>
                      <a:ext cx="70344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8" name="Group 80"/>
                  <p:cNvGrpSpPr/>
                  <p:nvPr/>
                </p:nvGrpSpPr>
                <p:grpSpPr>
                  <a:xfrm>
                    <a:off x="5351040" y="382320"/>
                    <a:ext cx="1888920" cy="1796400"/>
                    <a:chOff x="5351040" y="382320"/>
                    <a:chExt cx="1888920" cy="1796400"/>
                  </a:xfrm>
                </p:grpSpPr>
                <p:sp>
                  <p:nvSpPr>
                    <p:cNvPr id="309" name="Freeform 81"/>
                    <p:cNvSpPr/>
                    <p:nvPr/>
                  </p:nvSpPr>
                  <p:spPr>
                    <a:xfrm rot="18822600">
                      <a:off x="5250960" y="1381680"/>
                      <a:ext cx="14256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0" name="Freeform 82"/>
                    <p:cNvSpPr/>
                    <p:nvPr/>
                  </p:nvSpPr>
                  <p:spPr>
                    <a:xfrm rot="18822600">
                      <a:off x="6403680" y="578880"/>
                      <a:ext cx="76680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1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312" name="Freeform 222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3" name="Freeform 223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4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315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6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7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318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9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0" name="Group 92"/>
                  <p:cNvGrpSpPr/>
                  <p:nvPr/>
                </p:nvGrpSpPr>
                <p:grpSpPr>
                  <a:xfrm>
                    <a:off x="4507200" y="2695680"/>
                    <a:ext cx="876600" cy="2931840"/>
                    <a:chOff x="4507200" y="2695680"/>
                    <a:chExt cx="876600" cy="2931840"/>
                  </a:xfrm>
                </p:grpSpPr>
                <p:sp>
                  <p:nvSpPr>
                    <p:cNvPr id="321" name="Freeform 93"/>
                    <p:cNvSpPr/>
                    <p:nvPr/>
                  </p:nvSpPr>
                  <p:spPr>
                    <a:xfrm flipH="1" rot="16870800">
                      <a:off x="4084560" y="3483360"/>
                      <a:ext cx="189108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2" name="Freeform 94"/>
                    <p:cNvSpPr/>
                    <p:nvPr/>
                  </p:nvSpPr>
                  <p:spPr>
                    <a:xfrm flipH="1" rot="16870800">
                      <a:off x="4365000" y="4805640"/>
                      <a:ext cx="101268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3" name="Group 95"/>
                  <p:cNvGrpSpPr/>
                  <p:nvPr/>
                </p:nvGrpSpPr>
                <p:grpSpPr>
                  <a:xfrm>
                    <a:off x="5677200" y="2480400"/>
                    <a:ext cx="2280960" cy="2954520"/>
                    <a:chOff x="5677200" y="2480400"/>
                    <a:chExt cx="2280960" cy="2954520"/>
                  </a:xfrm>
                </p:grpSpPr>
                <p:sp>
                  <p:nvSpPr>
                    <p:cNvPr id="324" name="Freeform 96"/>
                    <p:cNvSpPr/>
                    <p:nvPr/>
                  </p:nvSpPr>
                  <p:spPr>
                    <a:xfrm rot="3144000">
                      <a:off x="5414400" y="3248280"/>
                      <a:ext cx="21279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5" name="Freeform 97"/>
                    <p:cNvSpPr/>
                    <p:nvPr/>
                  </p:nvSpPr>
                  <p:spPr>
                    <a:xfrm rot="3144000">
                      <a:off x="6800760" y="4496400"/>
                      <a:ext cx="11397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6" name="Group 98"/>
                  <p:cNvGrpSpPr/>
                  <p:nvPr/>
                </p:nvGrpSpPr>
                <p:grpSpPr>
                  <a:xfrm>
                    <a:off x="5646960" y="2591640"/>
                    <a:ext cx="1756800" cy="3031200"/>
                    <a:chOff x="5646960" y="2591640"/>
                    <a:chExt cx="1756800" cy="3031200"/>
                  </a:xfrm>
                </p:grpSpPr>
                <p:sp>
                  <p:nvSpPr>
                    <p:cNvPr id="327" name="Freeform 99"/>
                    <p:cNvSpPr/>
                    <p:nvPr/>
                  </p:nvSpPr>
                  <p:spPr>
                    <a:xfrm rot="3745200">
                      <a:off x="5263920" y="3394080"/>
                      <a:ext cx="203508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8" name="Freeform 100"/>
                    <p:cNvSpPr/>
                    <p:nvPr/>
                  </p:nvSpPr>
                  <p:spPr>
                    <a:xfrm rot="3745200">
                      <a:off x="6351840" y="4718880"/>
                      <a:ext cx="1089720" cy="57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9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330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1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2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333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4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5" name="Group 107"/>
                  <p:cNvGrpSpPr/>
                  <p:nvPr/>
                </p:nvGrpSpPr>
                <p:grpSpPr>
                  <a:xfrm>
                    <a:off x="4963680" y="2883240"/>
                    <a:ext cx="664920" cy="2717280"/>
                    <a:chOff x="4963680" y="2883240"/>
                    <a:chExt cx="664920" cy="2717280"/>
                  </a:xfrm>
                </p:grpSpPr>
                <p:sp>
                  <p:nvSpPr>
                    <p:cNvPr id="336" name="Freeform 108"/>
                    <p:cNvSpPr/>
                    <p:nvPr/>
                  </p:nvSpPr>
                  <p:spPr>
                    <a:xfrm rot="5755200">
                      <a:off x="4534560" y="3661560"/>
                      <a:ext cx="177408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7" name="Freeform 109"/>
                    <p:cNvSpPr/>
                    <p:nvPr/>
                  </p:nvSpPr>
                  <p:spPr>
                    <a:xfrm rot="5755200">
                      <a:off x="4718520" y="4926600"/>
                      <a:ext cx="9504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338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339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340" name="Arc 112"/>
                  <p:cNvSpPr/>
                  <p:nvPr/>
                </p:nvSpPr>
                <p:spPr>
                  <a:xfrm flipV="1">
                    <a:off x="5740560" y="85140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1" name="Arc 113"/>
                  <p:cNvSpPr/>
                  <p:nvPr/>
                </p:nvSpPr>
                <p:spPr>
                  <a:xfrm flipH="1">
                    <a:off x="2561400" y="226872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2" name="Arc 114"/>
                  <p:cNvSpPr/>
                  <p:nvPr/>
                </p:nvSpPr>
                <p:spPr>
                  <a:xfrm>
                    <a:off x="5818320" y="174780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3" name="Arc 115"/>
                  <p:cNvSpPr/>
                  <p:nvPr/>
                </p:nvSpPr>
                <p:spPr>
                  <a:xfrm flipH="1">
                    <a:off x="2174400" y="1293840"/>
                    <a:ext cx="3133440" cy="293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4" name="Arc 116"/>
                  <p:cNvSpPr/>
                  <p:nvPr/>
                </p:nvSpPr>
                <p:spPr>
                  <a:xfrm flipH="1">
                    <a:off x="3056400" y="677880"/>
                    <a:ext cx="228276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5" name="Arc 117"/>
                  <p:cNvSpPr/>
                  <p:nvPr/>
                </p:nvSpPr>
                <p:spPr>
                  <a:xfrm>
                    <a:off x="5491440" y="187272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6" name="Freeform 118"/>
                  <p:cNvSpPr/>
                  <p:nvPr/>
                </p:nvSpPr>
                <p:spPr>
                  <a:xfrm flipH="1">
                    <a:off x="4302000" y="82980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47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48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349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0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1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2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3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4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5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6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7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8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9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0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1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2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7647-8DC1-46EF-B67B-971D95F30F6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0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0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0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sp>
          <p:nvSpPr>
            <p:cNvPr id="40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0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1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grpSp>
          <p:nvGrpSpPr>
            <p:cNvPr id="41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1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9BD1-1313-4029-B9C4-6BC0B069AB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720" y="184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ning Your Presentational Skill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8" name="Picture 1" descr="th.jpg"/>
          <p:cNvPicPr/>
          <p:nvPr/>
        </p:nvPicPr>
        <p:blipFill>
          <a:blip r:embed="rId1"/>
          <a:stretch/>
        </p:blipFill>
        <p:spPr>
          <a:xfrm>
            <a:off x="2414520" y="2971800"/>
            <a:ext cx="4824360" cy="3200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nciples of teaching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a direct teach lesson: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the objective (s) clear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ve the students as mu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possible (try to break u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livery of content b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nking the information and inserting several brain breaks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 and model the concep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 &amp; A or some other review at the closure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1" name="Picture 1" descr="th-1.jpg"/>
          <p:cNvPicPr/>
          <p:nvPr/>
        </p:nvPicPr>
        <p:blipFill>
          <a:blip r:embed="rId1"/>
          <a:stretch/>
        </p:blipFill>
        <p:spPr>
          <a:xfrm>
            <a:off x="6400800" y="2133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oing a teach: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ake note of the importance of the three skills of presenting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bal:  What you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cal:  How you say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:  How you look and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13480" y="1981080"/>
            <a:ext cx="369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5" name="Picture 8" descr="MCj02975670000[1]"/>
          <p:cNvPicPr/>
          <p:nvPr/>
        </p:nvPicPr>
        <p:blipFill>
          <a:blip r:embed="rId1"/>
          <a:stretch/>
        </p:blipFill>
        <p:spPr>
          <a:xfrm>
            <a:off x="3429000" y="4889520"/>
            <a:ext cx="2743200" cy="143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Visual: how you look &amp; ac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ess professionall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you welcoming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e communication – Look at every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y language – Be open to the stud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rculate whenever possi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tion – Use an anticipatory se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ing – Review what was learned; ha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stion and answer se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you using visual aids to make th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tion more comprehensible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8" name="Picture 4" descr="MCj03341680000[1]"/>
          <p:cNvPicPr/>
          <p:nvPr/>
        </p:nvPicPr>
        <p:blipFill>
          <a:blip r:embed="rId1"/>
          <a:stretch/>
        </p:blipFill>
        <p:spPr>
          <a:xfrm>
            <a:off x="7015320" y="4419720"/>
            <a:ext cx="1823760" cy="205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ocal: how you say i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e enthusiasm, sincerity, and confid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on the positive, not the nega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y the rhythm, rate, and volume of your vo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smooth transitions.  Prepare the students 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 regarding upcoming changes in activit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For example, you may say something like, “Before we move on to the next activity, does anyone have any questions?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unciate and project your voic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on avoiding saying, “You guys,” “uh,” “um,” etc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erbal: what you s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sure that you provide accurate inform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don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know the answer to a question, don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make up an answe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on the timing of what you do and s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sure that what you are saying coincides with any references you make to visuals and other instructional material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pare the teac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your lesson objective(s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cipate the types of questions you might be asked and be ready with appropriate respons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visual aids that wi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HANCE your presentation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e prepared with all of yo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, practice, and practi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mor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5" name="Picture 1" descr="th-2.jpg"/>
          <p:cNvPicPr/>
          <p:nvPr/>
        </p:nvPicPr>
        <p:blipFill>
          <a:blip r:embed="rId1"/>
          <a:stretch/>
        </p:blipFill>
        <p:spPr>
          <a:xfrm>
            <a:off x="6400800" y="32767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 Black"/>
              </a:rPr>
              <a:t>Success!</a:t>
            </a:r>
            <a:endParaRPr b="0" lang="en-US" sz="5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67652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will do a SUPERB job!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21:11:18Z</dcterms:created>
  <dc:creator> </dc:creator>
  <dc:description/>
  <dc:language>en-US</dc:language>
  <cp:lastModifiedBy>Karen Verkler</cp:lastModifiedBy>
  <dcterms:modified xsi:type="dcterms:W3CDTF">2014-08-04T20:16:00Z</dcterms:modified>
  <cp:revision>51</cp:revision>
  <dc:subject/>
  <dc:title>Slide 1</dc:title>
</cp:coreProperties>
</file>